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AFB59-7BBA-4D74-A924-EF154E6AFE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20CBE-B523-4611-95D8-4674CF6C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A5B73-1638-4BFF-9A57-741BE856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65479-DBBA-492E-8412-DBDC8CA1D4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83C65-6654-4DE5-833E-D7F7A0CF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7ECDA-5788-4CA1-B275-AD97B06F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75A72-788D-4279-9BD3-7481C310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4786A-D6D2-4858-BECA-2A988DC66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9A380-44F5-4349-9ACB-249389061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3AD39-4AB4-4609-9614-8AFA61DD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BBDF2-4CCD-43A3-966B-16040A4C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DBD4A-C617-413C-AAF0-390D7B78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FB37-4F43-40AA-9A31-FBD484C72A7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道感染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367280" y="507204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003320" y="2349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道感染病毒是指主要经消化道传播的病毒，包括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科的肠道病毒属和引起急性胃肠炎的相关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41160" y="237024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科的肠道病毒属共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；小球型，无包膜；衣壳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强，但对热、干燥、紫外线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数肠道病毒感染细胞出现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，多引起隐性感染，有病毒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病多原、一原多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2627280" y="14032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肠道病毒种类与特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41160" y="1844280"/>
            <a:ext cx="8034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的病原体，大多数人为隐性感染，少数出现中枢神经系统症状，又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儿麻痹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两次病毒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前角运动神经元受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可获得对同型病毒牢固的免疫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减毒活疫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2987640" y="1125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病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14240" y="1223640"/>
            <a:ext cx="80344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柯萨奇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为隐性或轻型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无菌性脑膜炎、出疹性疾病、急性心肌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同型免疫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埃可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与柯萨奇病毒类似的神经系统和呼吸系统病变、手足口病以及婴幼儿腹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8-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可引起脑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9640" y="2491920"/>
            <a:ext cx="79200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胃肠炎是人类常见病，主要表现为腹泻。可引起急性胃肠炎的重要病毒种类有：轮状病毒、肠道腺病毒、诺瓦克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急性胃肠炎病毒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轮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00000" y="1267920"/>
            <a:ext cx="7632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基因组分节段；球型，无包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层衣壳，内衣壳形如车轮辐条，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急性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体液免疫为主，同型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应及时补液，纠正电解质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杯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58920" y="2565360"/>
            <a:ext cx="691344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；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通过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引起较大年龄儿童和成人急性胃肠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的共同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病毒的致病特点和免疫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人类病毒性急性胃肠炎的病毒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正版用户</cp:lastModifiedBy>
  <dcterms:modified xsi:type="dcterms:W3CDTF">2014-05-26T01:40:52Z</dcterms:modified>
  <cp:revision>141</cp:revision>
  <dc:subject/>
  <dc:title>内科护理学</dc:title>
</cp:coreProperties>
</file>